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2347-2D77-44B5-863B-F0641763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D1B-7494-451D-A4DD-606BEF52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3BF-604F-437F-AEB0-586AE036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710-8603-4B47-8958-0260417E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B41-3E48-4044-9011-FD22F0AA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D5A-189A-4CF5-9061-D10F37F9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513-326F-4D4B-B58A-FCBD237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400-8BE5-4A8C-8929-9F83BFFC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C74-6C02-4732-B293-C58AB716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24A-E2E4-474D-821D-6B7B6663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49A-4BF6-4FB8-86A8-21A4881C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448-E3AB-40F4-A7F2-E402160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E09-E5AE-4937-9B77-9C30A4A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DE0-2BA5-4C40-9480-E0CE711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069-63A8-467E-8657-69A37806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 1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971800" y="4038480"/>
            <a:ext cx="6019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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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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048120" y="3352680"/>
            <a:ext cx="5943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. Esta enfermo todavía ¿Por qué es fiesta mañana?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os proyecto es muy mala! Nosotros son va a fracas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971800" y="2514600"/>
            <a:ext cx="58672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atri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Estoy muy cansado. ¿Dónde vives? Nosotros somos listo para el fiesta! Nosotros tenemos abrir mañan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miras muy vieja! Chau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ra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048120" y="4876920"/>
            <a:ext cx="5867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muy bien. Tú eres muy linda en el sus fotos escuela! Tengo a trabajar mañana! Muy arrepintió! Escuch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 tu mamá! Hablo a tu hermano, ella es muy bie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h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048120" y="5562720"/>
            <a:ext cx="5943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! ¿Cuánto es el helado en escuela? Quiero helado antes su casa! Hasta pronto! Estamos muy 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j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048120" y="6248520"/>
            <a:ext cx="5257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hoy es una  prueba. Yo no puedo venir. Ellos son tienen un fiesta para Andrea! Pero te a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j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1905120" y="1905120"/>
            <a:ext cx="50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s mis amigos?  ¿ Puede venir a mi casa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1460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0968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28600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2:22Z</dcterms:modified>
  <cp:revision>118</cp:revision>
  <dc:subject/>
  <dc:title>Profile</dc:title>
</cp:coreProperties>
</file>